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5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3886200" y="-360"/>
            <a:ext cx="2968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960480" y="739440"/>
            <a:ext cx="49356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914040" y="4689360"/>
            <a:ext cx="502596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3886200" y="9379080"/>
            <a:ext cx="2968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85A60-3DB8-4641-A63A-DED00E0F16D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://www.mandalatv.net/itp/drivebys/css/" TargetMode="External"/><Relationship Id="rId2" Type="http://schemas.openxmlformats.org/officeDocument/2006/relationships/slide" Target="../slides/slide11.xml"/><Relationship Id="rId3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B0D04-44A4-4181-BAB8-D2661BB7C45D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Fonte: 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Times New Roman"/>
                <a:ea typeface="MS Gothic"/>
                <a:hlinkClick r:id="rId1"/>
              </a:rPr>
              <a:t>http://www.mandalatv.net/itp/drivebys/css/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Fonte: Wikipedia (Box Mod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2D63E8-A116-4F55-8052-E4161F2C7804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Imagem retirada de: http://www.flickr.com/photos/24413864@N05/4044264068/sizes/l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Suspendisse semper odio in dui. Donec iaculi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 justo. Donec accumsan, justo vel pharet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ius, libero mauris ultrices nisl, at pulvinar en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a vitae nunc. Duis imperdiet ultrices nisi. 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landit. Praesent sed mi non nulla pulvinar ultrici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d ultricies libero vitae nulla. Nunc suscipit ni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pede. Curabitur feugiat ipsum vel nib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cursus lectus id quam. Cras nec tellus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urna mollis ornare. Nulla facilisi. Aliquam er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. Suspendisse potenti. Nam porta qua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landit es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erat volutpat. Etiam commodo massa 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. Nulla laoreet. Praesent pellentesque tellus 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. Integer lacinia neque. In hac habitasse plat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ctumst. Fusce ut velit. Morbi lacus orci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viverra, tempor et, dictum non, massa. 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tis dui dictum enim. Nulla id elit eu era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Suspendisse semper odio in dui. Donec iaculi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 justo. Donec accumsan, justo vel pharet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ius, libero mauris ultrices nisl, at pulvinar en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a vitae nunc. Duis imperdiet ultrices nisi. 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landit. Praesent sed mi non nulla pulvinar ultrici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d ultricies libero vitae nulla. Nunc suscipit ni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pede. Curabitur feugiat ipsum vel nib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cursus lectus id quam. Cras nec tellus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urna mollis ornare. Nulla facilisi. Aliquam er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. Suspendisse potenti. Nam porta qua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landit es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erat volutpat. Etiam commodo massa 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. Nulla laoreet. Praesent pellentesque tellus 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. Integer lacinia neque. In hac habitasse plat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ctumst. Fusce ut velit. Morbi lacus orci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viverra, tempor et, dictum non, massa. 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tis dui dictum enim. Nulla id elit eu era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823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 e problema com container pai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26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26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igh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igh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righ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12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both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12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both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elati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wid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0%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absolu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243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elati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o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2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wid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0%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ixe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5640D-1213-4874-A725-BB4C9FBAD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AB60A-37C6-4FAF-8EFC-761234A4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0AC5C-E49C-49BC-90B6-379DC0AE8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1968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444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92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1968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444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7D93F-BD7D-46EF-B569-ACB520F85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1B033-C461-44D8-834D-BB89CAFC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7C13F-9F54-471A-83E3-A53F5545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5585B-0C8B-41F6-8336-0B48484A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C5BD9-8640-42EE-940E-A715BD5B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7120" y="174240"/>
            <a:ext cx="88023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4B102-E656-40E5-A501-9143B229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16FE5-6BA4-42A0-AB51-88ABD8A6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7DD27-D9B5-4F6A-B976-53E3FA43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A2A9A-334E-47FD-9FF6-1FE0AB64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59280" y="6381720"/>
            <a:ext cx="289224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Introdução ao Desenvolvimento Para Web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9280" cy="68580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964720" y="0"/>
            <a:ext cx="17928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2720" y="6669000"/>
            <a:ext cx="2130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C7A77-CFB1-4F62-8D1A-6BE4F9733145}" type="slidenum">
              <a:rPr b="0" lang="pt-BR" sz="18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08000" y="666900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27/10/09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runocampagnolo.com/2009li/2009/10/27/posicionamento-de-elementos-em-css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lasmadesign.com.br/stupidtables/index.html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ableless.com.br/propriedade-position-do-css" TargetMode="External"/><Relationship Id="rId2" Type="http://schemas.openxmlformats.org/officeDocument/2006/relationships/hyperlink" Target="http://www.pt-br.html.net/tutorials/css/lesson13.asp" TargetMode="External"/><Relationship Id="rId3" Type="http://schemas.openxmlformats.org/officeDocument/2006/relationships/hyperlink" Target="http://www.pt-br.html.net/tutorials/css/lesson14.asp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ltabooks.tempsite.ws/capitulos_amostra/00_cssbolso.pd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eferenciando.com/referencias/html-xhtml/html-tags" TargetMode="External"/><Relationship Id="rId2" Type="http://schemas.openxmlformats.org/officeDocument/2006/relationships/hyperlink" Target="http://www.referenciando.com/referencias/html-xhtml/html-tags/style" TargetMode="External"/><Relationship Id="rId3" Type="http://schemas.openxmlformats.org/officeDocument/2006/relationships/hyperlink" Target="http://www.referenciando.com/referencias/html-xhtml/html-tags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html/elements-head" TargetMode="External"/><Relationship Id="rId2" Type="http://schemas.openxmlformats.org/officeDocument/2006/relationships/hyperlink" Target="http://reference.sitepoint.com/html/style" TargetMode="External"/><Relationship Id="rId3" Type="http://schemas.openxmlformats.org/officeDocument/2006/relationships/hyperlink" Target="http://reference.sitepoint.com/html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hyperlink" Target="http://reference.sitepoint.com/html/script" TargetMode="External"/><Relationship Id="rId6" Type="http://schemas.openxmlformats.org/officeDocument/2006/relationships/hyperlink" Target="http://www.referenciando.com/referencias/html-xhtml/html-tags/script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float" TargetMode="External"/><Relationship Id="rId3" Type="http://schemas.openxmlformats.org/officeDocument/2006/relationships/hyperlink" Target="http://reference.sitepoint.com/css/clear" TargetMode="External"/><Relationship Id="rId4" Type="http://schemas.openxmlformats.org/officeDocument/2006/relationships/hyperlink" Target="http://reference.sitepoint.com/css/position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width" TargetMode="External"/><Relationship Id="rId3" Type="http://schemas.openxmlformats.org/officeDocument/2006/relationships/hyperlink" Target="http://reference.sitepoint.com/css/left" TargetMode="External"/><Relationship Id="rId4" Type="http://schemas.openxmlformats.org/officeDocument/2006/relationships/hyperlink" Target="http://reference.sitepoint.com/css/right" TargetMode="External"/><Relationship Id="rId5" Type="http://schemas.openxmlformats.org/officeDocument/2006/relationships/hyperlink" Target="http://reference.sitepoint.com/css/top" TargetMode="External"/><Relationship Id="rId6" Type="http://schemas.openxmlformats.org/officeDocument/2006/relationships/hyperlink" Target="http://reference.sitepoint.com/css/bottom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38160"/>
            <a:ext cx="791064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  <a:ea typeface="MS Gothic"/>
              </a:rPr>
              <a:t>CSS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de Elementos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5029200"/>
            <a:ext cx="8101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2º Semestre 2009 &gt; PUCPR &gt; BSI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Bruno C. de Paula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760" y="3214800"/>
            <a:ext cx="791028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A181A-45F3-41BF-AF9D-5ECF43217317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Exemplos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MS Gothic"/>
              </a:rPr>
              <a:t>Exemplos em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http://www.brunocampagnolo.com/2009li/2009/10/27/posicionamento-de-elementos-em-css/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7480" y="44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Lembre-se do Box model!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143080" y="928800"/>
            <a:ext cx="5888160" cy="5841720"/>
            <a:chOff x="2143080" y="928800"/>
            <a:chExt cx="5888160" cy="5841720"/>
          </a:xfrm>
        </p:grpSpPr>
        <p:graphicFrame>
          <p:nvGraphicFramePr>
            <p:cNvPr id="89" name=""/>
            <p:cNvGraphicFramePr/>
            <p:nvPr/>
          </p:nvGraphicFramePr>
          <p:xfrm>
            <a:off x="2143080" y="928800"/>
            <a:ext cx="5888160" cy="5841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43080" y="928800"/>
                      <a:ext cx="5888160" cy="584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" name=""/>
            <p:cNvSpPr/>
            <p:nvPr/>
          </p:nvSpPr>
          <p:spPr>
            <a:xfrm>
              <a:off x="2143080" y="928800"/>
              <a:ext cx="5888160" cy="58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Box model para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elementos em bloco</a:t>
            </a:r>
            <a:br>
              <a:rPr sz="3200"/>
            </a:b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IE (6 e 7) x Resto do Mundo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340000" y="1484280"/>
            <a:ext cx="4324320" cy="5372280"/>
            <a:chOff x="2340000" y="1484280"/>
            <a:chExt cx="4324320" cy="537228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2340000" y="1484280"/>
              <a:ext cx="4324320" cy="537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340000" y="1484280"/>
              <a:ext cx="4324320" cy="537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Visualizar o Box Model com Firebug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Instalar o Firebug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http://www.getfirebug.com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ecla F12!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69D56-1617-42E9-8D3F-50EA9FD18E00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71720" y="5072040"/>
            <a:ext cx="7038720" cy="14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9280" y="0"/>
            <a:ext cx="80852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 Floa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2700360"/>
            <a:ext cx="5040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c5000b"/>
                </a:solidFill>
                <a:latin typeface="Verdana"/>
                <a:ea typeface="MS Gothic"/>
              </a:rPr>
              <a:t>Determina 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osicionamento</a:t>
            </a:r>
            <a:r>
              <a:rPr b="0" lang="pt-BR" sz="3200" spc="-1" strike="noStrike">
                <a:solidFill>
                  <a:srgbClr val="c5000b"/>
                </a:solidFill>
                <a:latin typeface="Verdana"/>
                <a:ea typeface="MS Gothic"/>
              </a:rPr>
              <a:t> de um elemento em relação ao fluxo da página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481A4-8F2B-47DA-9B9C-8EF5DFE6290C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00720" y="179280"/>
            <a:ext cx="3465360" cy="62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alore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lef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righ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none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float: lef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 elemento é posicionado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squer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s seguintes ficam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reit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21790-ECEF-4BC8-8F5B-434993313936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9280" y="2747880"/>
            <a:ext cx="4140360" cy="2652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319640" y="2700360"/>
            <a:ext cx="45622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60360" y="1079640"/>
            <a:ext cx="828036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float: righ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 elemento é posicionado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reit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s seguintes ficam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squer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A757E-AD5D-454D-96A9-DC14222A37B8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3060720"/>
            <a:ext cx="4680000" cy="2879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859280" y="3068640"/>
            <a:ext cx="4230720" cy="17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7200" y="1619280"/>
            <a:ext cx="863280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79280" y="179280"/>
            <a:ext cx="88059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blema: o contâiner pai se adapta aos elementos colocados depois do elemento com o floa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E6FAB-2F41-47C6-AE13-E119E0C33EE0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3240000"/>
            <a:ext cx="885060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um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nhecemos, no semestre passado diversos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seletores e propriedade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CS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ambém trabalhamos com propriedades par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mensioname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(box model) de elemento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Nosso objetivo hoje será iniciar o trabalh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osicioname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e elemento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 clear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ntrola o comportamento de um elemento em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 relação ao estado de 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s elementos anteriore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alores possívei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lef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righ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both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8AD3D-B14A-4EAD-84EE-7DEEE6D97EEC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lef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lef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FA51D-452E-4B4C-8FAF-67C798B47E75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7760" y="4114800"/>
            <a:ext cx="3162240" cy="2743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319640" y="4319640"/>
            <a:ext cx="459108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39840" y="900000"/>
            <a:ext cx="84801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righ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righ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F2E7D-D7D5-4F43-BBA9-8040216F101B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9280" y="4162320"/>
            <a:ext cx="3029040" cy="2695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087800" y="4319640"/>
            <a:ext cx="4552920" cy="140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87200" y="873000"/>
            <a:ext cx="8632800" cy="39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both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qualqu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righ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qualqu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CA000-0EAB-4604-97E5-1C3985A25C77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9840" y="4278240"/>
            <a:ext cx="2990880" cy="2381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140360" y="4319640"/>
            <a:ext cx="461952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8120" y="1225440"/>
            <a:ext cx="8651880" cy="38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olvendo o problema da adaptação do contâiner pai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	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ar um espaçador (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spac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 com clear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F9880-3388-4CA3-917F-547056CA2E23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0680" y="2700360"/>
            <a:ext cx="3919680" cy="4140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191120" y="2519280"/>
            <a:ext cx="480852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79280" y="1619280"/>
            <a:ext cx="8640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Tipos de posicionamento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0360" y="1600200"/>
            <a:ext cx="850572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Estátic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static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Relativ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relativ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Absolut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absolut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Fix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ixed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AC8FF-DD5E-4FBC-A667-CA71310BEE08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um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9520" y="993600"/>
            <a:ext cx="8929800" cy="557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meçaremos a entender que usa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abelas para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é errad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Leitura obrigatória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Porque utilizar tabelas para layout é estupidez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2360" y="3600360"/>
            <a:ext cx="4427640" cy="3175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072040" y="3600360"/>
            <a:ext cx="338940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estátic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static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adrão, como os elementos são colocados po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adrã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EFF8B-8383-4F78-8017-A4A4E6A0D7FF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60360" y="2879640"/>
            <a:ext cx="684072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relativ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relative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relaçã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ao posicionamento estátic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F4A1B-28BA-4317-A106-16DB04548E27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319640" y="3959280"/>
            <a:ext cx="4680000" cy="2700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98360" y="4078440"/>
            <a:ext cx="3581640" cy="22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absolut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absolute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relação ao canto superior esquerdo ou canto superior direito do elemento pai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“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scapa” ao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1712C-2865-4884-B88C-E7163D814A52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9280" y="81000"/>
            <a:ext cx="4319640" cy="1898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16000" y="2160720"/>
            <a:ext cx="572436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fix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fixed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relação à janela do navegador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“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scapa” ao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D8078-E6B4-455B-8784-BFB14BFFDF96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F5E0D-33CB-4944-8705-095996DEA8A2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óximas aulas de CSS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214720"/>
            <a:ext cx="8553600" cy="38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808080"/>
                </a:solidFill>
                <a:latin typeface="Verdana"/>
                <a:ea typeface="MS Gothic"/>
              </a:rPr>
              <a:t>CSS Posicionamento: layouts;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808080"/>
                </a:solidFill>
                <a:latin typeface="Verdana"/>
                <a:ea typeface="MS Gothic"/>
              </a:rPr>
              <a:t>Menus, Botões e Forms.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214767-2410-41F5-BF54-8D4EF08A7CC4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Material referente ao assunto da aula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1143000"/>
            <a:ext cx="8831160" cy="88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ropriedade position do CS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http://www.tableless.com.br/propriedade-position-do-css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Flutuando elemento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http://www.pt-br.html.net/tutorials/css/lesson13.asp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ndo elemento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http://www.pt-br.html.net/tutorials/css/lesson14.asp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Material referente ao assunt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43240" y="1600200"/>
            <a:ext cx="4722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SS – Guia de Bols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ditora AltaBook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2008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Download de um capítul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DBC2B-0DB8-40B7-A549-73BE897C0598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85840" y="1428840"/>
            <a:ext cx="3857400" cy="52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71F33-59ED-4F71-8081-5A7502C403E2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7480" y="260280"/>
            <a:ext cx="905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Portugu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 –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Referenciando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920" y="1600200"/>
            <a:ext cx="910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&lt;script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6CC01-7855-4ECD-B6E3-37B2DC993B82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Ingl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 – 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&lt;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5"/>
              </a:rPr>
              <a:t>script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6"/>
              </a:rPr>
              <a:t>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) 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920" y="1600200"/>
            <a:ext cx="8831160" cy="54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etermina o posicionamento de um elemento em relação ao flux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cle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controla o comportamento de um elemento em relação ao estado de float dos anteriore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position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tipo de posicionamento de um elemento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20" y="1600200"/>
            <a:ext cx="883116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largura de um elemento, obrigatório nos elementos com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istância em relação ao limite esquerdo ou direito do elemento sendo posicionad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5"/>
              </a:rPr>
              <a:t>top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6"/>
              </a:rPr>
              <a:t>bottom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istância em relação ao limite superior ou inferior do elemento sendo posicionado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23:05:30Z</dcterms:created>
  <dc:creator>Bruno C. de Paula</dc:creator>
  <dc:description/>
  <dc:language>en-US</dc:language>
  <cp:lastModifiedBy>Bruno Campagnolo de Paula</cp:lastModifiedBy>
  <dcterms:modified xsi:type="dcterms:W3CDTF">2009-06-16T19:09:20Z</dcterms:modified>
  <cp:revision>852</cp:revision>
  <dc:subject/>
  <dc:title>Aula 01 - Curso Técnico</dc:title>
</cp:coreProperties>
</file>